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798D-5AA1-46C9-A2AF-1AB57C626A0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FDC1-E5B7-49DD-98FD-7F8D96624BB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1A8F-8AD5-4C11-9A73-238ED20E13F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CFDB-A563-4F71-9CEB-90F45F78BBE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94E1-50B7-4C8E-A566-F2FDDD836D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72C0-BCB1-4F81-A629-918955779F0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134E-ACA8-403C-B1FB-E3DF3A6C2E7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BC54-4087-4041-99B8-2348A0987D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917B8-D42E-446D-8AFD-A90E1815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5E9BD-B483-4E72-9036-CED53067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E09DC-18F2-46D5-99D2-79E123D717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1803-69B9-4C1B-9DAB-F23672FA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35E4E-92F6-4B5F-97E4-8EDDF854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948D-9461-4FBF-8559-F9FEC0E0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11E73-CB05-4F3E-A65A-741F2E37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E7D3-05C3-4F91-A9BC-E4524AC3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8A73E-8948-4AF7-A98A-62B7BB14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3E1D-9D4B-49C8-B9D2-9B7DB506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3EA0-A06F-4801-9729-13E409F1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8F13-1441-419A-9C5F-22B6F100EEA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三十五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免疫功能药物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治疗自身免疫性溶血性贫血的首选药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波尼松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白消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557000"/>
            <a:ext cx="7943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和免疫增强剂的临床常用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的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常用的影响免疫功能药物的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26792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圆角矩形 1"/>
          <p:cNvSpPr/>
          <p:nvPr/>
        </p:nvSpPr>
        <p:spPr>
          <a:xfrm>
            <a:off x="539640" y="1125360"/>
            <a:ext cx="8280360" cy="53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主因“间断咳嗽、咳痰、发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，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余”入院。入院查体：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8.5 ℃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，双肺可闻及小水泡音，右手中指两侧有粟粒样结节，食指红肿，伴触痛，右足趾肿胀，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m×5mm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紫癜，余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实验室检查：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WBC 1.7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  <a:ea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红细胞沉降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0mm/h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应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73ug/m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类风湿因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医生考虑为变态反应性疾病，医嘱给予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id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静脉滴注，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庆大霉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6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U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喷咽，每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。给药后患者体温逐渐降至正常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后症状明显改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755640" y="2205000"/>
            <a:ext cx="77770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 地塞米松治疗该病的作用原理和临床应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地塞米松的不良反应和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抑制剂是一类非特异性地抑制机体免疫功能的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作用特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缺乏特异性和选择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对初次免疫应答反应抑制作用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 药物作用与给药时间和抗原刺激的时间间隔及先后顺序密切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多数免疫抑制剂尚有非特异性抗炎作用，抑制红、肿、热、痛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1628640"/>
            <a:ext cx="7920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孢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硫唑嘌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他克莫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免疫增强剂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增强剂是指可激活免疫活性细胞、增强机体的特异性或非特异性免疫功能或能加速诱导免疫应答反应，使低下的免疫功能恢复正常的一大类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卡介苗、干扰素、胸腺激素、左旋咪唑、香茹多糖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植物药增强免疫功能的主要有效成分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生物碱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有机酸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黄酮苷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多糖类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植物雌激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常用于器官移植的免疫抑制剂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强的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孢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53:28Z</dcterms:modified>
  <cp:revision>105</cp:revision>
  <dc:subject/>
  <dc:title>内科护理学</dc:title>
</cp:coreProperties>
</file>